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FDB-2C07-443B-8A30-FA588D39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60D-2B60-4E4D-8E51-4D65254B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B0D-B278-4537-8506-8A441011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7A9-9579-4C78-B483-4A564D18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47B-9422-48F4-993C-AAF754D2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1CB-0BBE-476A-B88D-A6A95660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2DE1-CAC9-4C06-A15F-458FA979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2A7-DECF-48D3-999A-41518EF3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BA9-8AAE-4DA9-9E62-63DF2DD2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A97-B85F-4BE0-A111-91D39A55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1F4-2DA8-49E4-8E58-EB4E9D4F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B64-B3AE-446F-B112-55013711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B02B-4A43-4180-9B40-EDB82884B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ground Articles on Q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4114800" cy="291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317808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5800" y="4191120"/>
            <a:ext cx="4114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in a Villain or a Hero:  Argument Essay Organiz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1028880" cy="947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001000" y="457200"/>
            <a:ext cx="1028880" cy="94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511960" y="2057400"/>
            <a:ext cx="3632040" cy="464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28600" y="2286000"/>
            <a:ext cx="51055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80880" y="609480"/>
          <a:ext cx="8534160" cy="5409360"/>
        </p:xfrm>
        <a:graphic>
          <a:graphicData uri="http://schemas.openxmlformats.org/drawingml/2006/table">
            <a:tbl>
              <a:tblPr/>
              <a:tblGrid>
                <a:gridCol w="2986560"/>
                <a:gridCol w="5547600"/>
              </a:tblGrid>
              <a:tr h="54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 1 – (Exordiu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want to hook the reader with interesting facts that will grab his/her attention about heroes/villains and therefore want to read the remainder of your essa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esting Facts about heroes/villain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0880" y="457200"/>
          <a:ext cx="8457840" cy="5484960"/>
        </p:xfrm>
        <a:graphic>
          <a:graphicData uri="http://schemas.openxmlformats.org/drawingml/2006/table">
            <a:tbl>
              <a:tblPr/>
              <a:tblGrid>
                <a:gridCol w="2959560"/>
                <a:gridCol w="5498280"/>
              </a:tblGrid>
              <a:tr h="54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 2 – (Narr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want to provide general and interesting information about Qin/Qin dynasty for the read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esting information about Qin/Qin dynast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380880"/>
          <a:ext cx="8381520" cy="5486040"/>
        </p:xfrm>
        <a:graphic>
          <a:graphicData uri="http://schemas.openxmlformats.org/drawingml/2006/table">
            <a:tbl>
              <a:tblPr/>
              <a:tblGrid>
                <a:gridCol w="2996280"/>
                <a:gridCol w="5385240"/>
              </a:tblGrid>
              <a:tr h="54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 3 – (Confirm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want to clearly state your opinion (thesis) in the first sentence as to whether you believe Qin is a hero or a villain.  Then give your first reason for your decision with evidence (facts/details/etc.) to support and back up your reas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HESI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believe Qin Shi Hu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 is a _________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dence 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304920"/>
          <a:ext cx="8458200" cy="5486040"/>
        </p:xfrm>
        <a:graphic>
          <a:graphicData uri="http://schemas.openxmlformats.org/drawingml/2006/table">
            <a:tbl>
              <a:tblPr/>
              <a:tblGrid>
                <a:gridCol w="3048120"/>
                <a:gridCol w="5410080"/>
              </a:tblGrid>
              <a:tr h="54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 4 – (Extension of your Confirm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want to provide your second reason as to why you believe Qin is a hero/villain along with the evidence (facts/details/etc.) to support and back up your reas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dence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304920"/>
          <a:ext cx="8457840" cy="5713920"/>
        </p:xfrm>
        <a:graphic>
          <a:graphicData uri="http://schemas.openxmlformats.org/drawingml/2006/table">
            <a:tbl>
              <a:tblPr/>
              <a:tblGrid>
                <a:gridCol w="3024720"/>
                <a:gridCol w="5433120"/>
              </a:tblGrid>
              <a:tr h="57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 5 – (Extension of your Confirm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want to provide your third reason as to why you believe Qin is a hero/villain along with the evidence (facts/details/etc.) to support and back up your reas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dence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38080" y="380880"/>
          <a:ext cx="7696080" cy="5561280"/>
        </p:xfrm>
        <a:graphic>
          <a:graphicData uri="http://schemas.openxmlformats.org/drawingml/2006/table">
            <a:tbl>
              <a:tblPr/>
              <a:tblGrid>
                <a:gridCol w="2750040"/>
                <a:gridCol w="4946040"/>
              </a:tblGrid>
              <a:tr h="556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 6 – (Refut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want to present an opposing reason to your thesis and explain why this opposing view/reason is weak or wro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posing Reason/View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dence to discredit it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09480" y="533520"/>
          <a:ext cx="8153280" cy="5485320"/>
        </p:xfrm>
        <a:graphic>
          <a:graphicData uri="http://schemas.openxmlformats.org/drawingml/2006/table">
            <a:tbl>
              <a:tblPr/>
              <a:tblGrid>
                <a:gridCol w="2913120"/>
                <a:gridCol w="5240160"/>
              </a:tblGrid>
              <a:tr h="548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 7 – (Peror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 want to wrap up your argument as to why Qin is a hero/villain by restating your thesis (from paragraph 3) and also giving your reader something to think about as you end your argume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s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Think About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20" y="1065600"/>
            <a:ext cx="86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w use this organizer to help you write your rough dra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7242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28600" y="685800"/>
          <a:ext cx="8686800" cy="5985000"/>
        </p:xfrm>
        <a:graphic>
          <a:graphicData uri="http://schemas.openxmlformats.org/drawingml/2006/table">
            <a:tbl>
              <a:tblPr/>
              <a:tblGrid>
                <a:gridCol w="2133720"/>
                <a:gridCol w="1447560"/>
                <a:gridCol w="852480"/>
                <a:gridCol w="747720"/>
                <a:gridCol w="152424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well writ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s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well writ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s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l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well writ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s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ims/Reas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ee well given reas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wo well given reas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e well given rea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given reas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dence/Sup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claims/reas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 evidence given for each 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 evidence given for most clai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eff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dence giv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evidence giv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u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s an opposing view and discredits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s an opposing view and somewhat discredits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es to present an opposing view and discredit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opposing view giv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lu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well writ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s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ization  / Spel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ctuation / Gramm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err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e to two err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ee to six err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n or more err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ra-credit for being typed and turned in o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ssay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1600200" y="151560"/>
            <a:ext cx="53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 Essay Rubric:  Qin a Hero or a Vil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828800" y="533520"/>
            <a:ext cx="4981680" cy="2485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828800" y="3029040"/>
            <a:ext cx="5019840" cy="3828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62320" y="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ing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381400" y="833400"/>
            <a:ext cx="4957560" cy="5872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228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izing China’s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33720" y="685800"/>
            <a:ext cx="5081400" cy="6019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95480" y="152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licts with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828800" y="609480"/>
            <a:ext cx="5226120" cy="609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14600" y="152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the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752480" y="380880"/>
            <a:ext cx="5043600" cy="6324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57400" y="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eror’s Death and Bu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YS QIN WAS A HERO AND A VILLAIN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191120" cy="3124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2590920"/>
            <a:ext cx="346716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85800" y="457200"/>
          <a:ext cx="8153280" cy="6095520"/>
        </p:xfrm>
        <a:graphic>
          <a:graphicData uri="http://schemas.openxmlformats.org/drawingml/2006/table">
            <a:tbl>
              <a:tblPr/>
              <a:tblGrid>
                <a:gridCol w="3962520"/>
                <a:gridCol w="419076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Bright"/>
                          <a:ea typeface="Times New Roman"/>
                        </a:rPr>
                        <a:t>WAYS QIN WAS A H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Bright"/>
                          <a:ea typeface="Times New Roman"/>
                        </a:rPr>
                        <a:t>DETAILS/FACTS/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533520"/>
          <a:ext cx="8382240" cy="5875200"/>
        </p:xfrm>
        <a:graphic>
          <a:graphicData uri="http://schemas.openxmlformats.org/drawingml/2006/table">
            <a:tbl>
              <a:tblPr/>
              <a:tblGrid>
                <a:gridCol w="3962520"/>
                <a:gridCol w="44197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Bright"/>
                          <a:ea typeface="Times New Roman"/>
                        </a:rPr>
                        <a:t>WAYS QIN WAS A VILL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Bright"/>
                          <a:ea typeface="Times New Roman"/>
                        </a:rPr>
                        <a:t>DETAILS/FACTS/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7:29:36Z</dcterms:created>
  <dc:creator>gehadde</dc:creator>
  <dc:description/>
  <dc:language>en-US</dc:language>
  <cp:lastModifiedBy>gehadde</cp:lastModifiedBy>
  <dcterms:modified xsi:type="dcterms:W3CDTF">2012-04-11T16:40:02Z</dcterms:modified>
  <cp:revision>22</cp:revision>
  <dc:subject/>
  <dc:title>Qin a Villain or a Hero:  Argument Essay Organizer </dc:title>
</cp:coreProperties>
</file>